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E76B-2732-4BD2-AE3E-FCFCCFB6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2730-68DB-4C5A-BE19-6514314B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2C3F-6B6D-481F-A77E-ADBABD0A1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7C82-E081-4DC9-90CE-3FEB1F140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2391-C10C-4BC1-906B-5CFFD460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A997-8F25-4585-89C8-28736F75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668E-F128-47E2-BCE7-B8F2D7B8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423B-3003-48C9-B5B9-FA687056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E3E5-1C4A-4EE9-ADAC-153DA1B0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BC56-786F-44FF-BF92-5D8E5950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CD89-6C36-4C5F-9889-7B93AE81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1124-1B8B-4633-A5DB-BC7ED820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F5D4-C76A-4F05-A271-7E27DF533E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lcpa.org/Creating21stCenturyLearners_LibraryDataReport.10.17.12.pdf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es a school librarian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eacher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llaborates and co-teach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literacy skills &amp; pro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es professional develop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motes a love of reading and litera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eader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sures SLP supports the school progr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ittee 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ibraria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s collection to support curriculum and stud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motes the use of appropriate technology for lear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thical use of 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es it matter?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The most important thing a strong library program can have is a full-time certified librarian with support staff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A School Library Project, et. al. 2012. Creating 21st-Centry Learners: A Report on Pennsylvania’s Public School Libraries.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elcpa.org/Creating21stCenturyLearners_LibraryDataReport.10.17.12.pdf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accessed March 18, 2013).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School librarians have deep expertise in digital literacy skills; have well-developed instructional strategies based on thinking critically, communicating creatively in a variety of media, and solving problems creatively; and are often role models for strong leadership, initiative, and other career and life skills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rilling, Bernie. 2010. “From Libraries to Learning Libratories: The New ABC's of 21st-Century School Libraries.” School Library Monthly 29 (1): 43.  &lt;http://www.schoollibrarymonthly.com/articles/Trilling2010-v27n1p43.html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3789360" y="457200"/>
            <a:ext cx="4835520" cy="625788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533520" y="23400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Data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toration of a 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5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SLA assistance—Northeast Area Dir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ams to emul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nding legis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7T00:49:21Z</dcterms:created>
  <dc:creator>JudiParadis</dc:creator>
  <dc:description/>
  <dc:language>en-US</dc:language>
  <cp:lastModifiedBy>JudiParadis</cp:lastModifiedBy>
  <dcterms:modified xsi:type="dcterms:W3CDTF">2013-10-07T01:18:04Z</dcterms:modified>
  <cp:revision>3</cp:revision>
  <dc:subject/>
  <dc:title>What does a school librarian do?</dc:title>
</cp:coreProperties>
</file>